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523-C4E7-4167-AD19-72C1FDA7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A49-2147-4046-B154-8F499C1F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DF8-2F2B-4585-964C-1EEE5622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528-1A3F-4367-B885-FDA636DC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483-3E9C-4A02-A2A1-FE359397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7B2-2008-442D-ADB2-EFBA3DEA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6C1-D324-4432-94E2-652718C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8DB-9DD0-46C7-A3E6-80F44C2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D94-29BB-4638-B7DE-3144BBFF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47C-7F5D-4172-ACAF-6914DF6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1B4-1CBE-48BD-BF8C-9B6ED90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14E-1411-4236-914E-AB05970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D562-CE36-4B50-943C-8138F700721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4 Zas pominul sa noc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pominul sa noci ti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 milosti mi svitol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velebím ťa, Bož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život, silu, pokoj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ňom každým nové žehn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duša dost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zmývaš hanbu mojich ví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ktoré trpel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v mysli mojej zrána hneď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sť o tej tvojej láske zn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ary Ducha zúroč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voju moc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dnes ma svojím Duchom ve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ezvedie ma hriešny sve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boji viery zotr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íťazne ho dokon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01:26Z</dcterms:modified>
  <cp:revision>66</cp:revision>
  <dc:subject/>
  <dc:title>Je veľký náš Pán, on slávy je Kráľ Nech do všetkých strán  spev vrúcnych znie chvál.</dc:title>
</cp:coreProperties>
</file>